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A30-A560-4AAD-851E-652F9372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652-98F6-41B8-8F87-EE02B56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CBAF-BACF-4F64-B67D-00563062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97E-F44E-43F4-AF9D-F75015D9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422-BA1D-4775-854D-DB9A6D2D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AE4E-2D15-407D-9200-522B4AD5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A7E6-94BE-4671-8916-85E94213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9912-6F43-46FD-B398-C6FF8D3C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18B8-5EA8-4789-B434-3278144D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FB0-9B3D-4EA9-8A9E-83D6C95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A03-064E-4165-8216-EC0A969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E02-670C-4D09-83B6-06820A0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ED48-2ED9-4494-BB27-B56FFAF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0B24-5492-4D2F-A80B-0F27BCD6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21B3-1301-4755-B8F4-62B6D69C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F32F-6A03-421E-9897-2D9469C5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0551-8A1B-45FD-B473-704FFCE5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A06F-D2C4-4A4E-8273-BD55C1A2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806-1107-4F17-A4B4-51F701A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B94-98BF-485D-8329-7B9FC3A1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B2F-997F-443C-98F4-8A543987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3DA-650A-466D-A444-6AAE6D0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324-25DF-400F-B118-37759E8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6F7-C33E-4A12-A90B-7CB2BBB1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556F-CAA8-4990-97E8-08EFF64EE33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9DBC-C973-4B06-B9E8-A88CA8F18B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t.wav" TargetMode="External"/><Relationship Id="rId2" Type="http://schemas.microsoft.com/office/2007/relationships/media" Target="file:///tmp/home/.config/libreoffice/4/user/gallery/put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oor.wav" TargetMode="External"/><Relationship Id="rId2" Type="http://schemas.microsoft.com/office/2007/relationships/media" Target="file:///tmp/home/.config/libreoffice/4/user/gallery/door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me.wav" TargetMode="External"/><Relationship Id="rId2" Type="http://schemas.microsoft.com/office/2007/relationships/media" Target="file:///tmp/home/.config/libreoffice/4/user/gallery/come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old.wav" TargetMode="External"/><Relationship Id="rId2" Type="http://schemas.microsoft.com/office/2007/relationships/media" Target="file:///tmp/home/.config/libreoffice/4/user/gallery/tol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ow.wav" TargetMode="External"/><Relationship Id="rId2" Type="http://schemas.microsoft.com/office/2007/relationships/media" Target="file:///tmp/home/.config/libreoffice/4/user/gallery/now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us.wav" TargetMode="External"/><Relationship Id="rId2" Type="http://schemas.microsoft.com/office/2007/relationships/media" Target="file:///tmp/home/.config/libreoffice/4/user/gallery/us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did.wav" TargetMode="External"/><Relationship Id="rId2" Type="http://schemas.microsoft.com/office/2007/relationships/media" Target="file:///tmp/home/.config/libreoffice/4/user/gallery/di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ust.wav" TargetMode="External"/><Relationship Id="rId2" Type="http://schemas.microsoft.com/office/2007/relationships/media" Target="file:///tmp/home/.config/libreoffice/4/user/gallery/just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8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6494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67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651640" y="407664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8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411280" y="177336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69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2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ristm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564000" y="1700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405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627280" y="17733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28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9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l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140360" y="198900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38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0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124000" y="177336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69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04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195640" y="1700280"/>
            <a:ext cx="9363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38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k’s Snap Word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68360" y="170028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77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0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0:23:26Z</dcterms:created>
  <dc:creator>Jim</dc:creator>
  <dc:description/>
  <dc:language>en-US</dc:language>
  <cp:lastModifiedBy>Jim</cp:lastModifiedBy>
  <dcterms:modified xsi:type="dcterms:W3CDTF">2004-07-23T10:40:16Z</dcterms:modified>
  <cp:revision>12</cp:revision>
  <dc:subject/>
  <dc:title>Jack’s Snap Words</dc:title>
</cp:coreProperties>
</file>