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73A5-7219-488C-9914-518BA010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0FB-96F8-480F-8CE7-5DFA4C0D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C06-5055-43BE-BB48-E9020374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C5A-FC67-4E89-87B5-3EA06D1F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BD221-1D9D-4677-9F69-29E6EAAD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7B59C-3CF5-4A2D-995F-C6AA9056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E93E2-61A2-4666-825E-A7A72FBD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72FAA-914D-49F2-9DE4-58F2A7EC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BF73E-29A8-48AE-B6FA-321BEC31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1C34A-0E0D-4F47-BE77-9161D73C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AFF31-163B-4825-9410-4CA744F7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7E1-C142-4542-808C-96E6952F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877B2-9143-4683-926F-06B0BF78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EDA95-AC3A-47F4-9CAB-2974C9B2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2E739-4638-4A99-85AE-16EB60B5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377C8-A8FF-4776-BB39-3C84641C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B5074-0DB5-467A-9E77-28A0C870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F97-8026-45B8-838A-D80BF88C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30A2-BC16-4546-9BDD-B3555254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580-D0CB-4A41-A528-07E7F326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624-0CBD-4EA2-9B0A-1B6BB166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BC0-4EE0-408A-8FCF-C4D5A9BF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BD3-1337-40C2-BE87-DCCF293C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6EA-EC62-4A73-BEC6-346564F1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358C-E574-423C-A992-BDDDC1AF1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5F2B-02FE-432E-991B-5CC61D9CA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ack’s Snap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got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372360" y="4221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ack’s Snap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hav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588000" y="4292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917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ack’s Snap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a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574920" cy="5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78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ack’s Snap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g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27640" y="4292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1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ack’s Snap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his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429264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1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ack’s Snap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day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300720" y="429264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2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ack’s Snap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with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56360" y="4221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36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ack’s Snap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out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72360" y="4221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836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ack’s Snap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you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649440" cy="64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2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ack’s Snap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all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12000" y="443700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778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8:43:29Z</dcterms:created>
  <dc:creator>Jim</dc:creator>
  <dc:description/>
  <dc:language>en-US</dc:language>
  <cp:lastModifiedBy>Jim</cp:lastModifiedBy>
  <dcterms:modified xsi:type="dcterms:W3CDTF">2004-03-31T09:57:27Z</dcterms:modified>
  <cp:revision>18</cp:revision>
  <dc:subject/>
  <dc:title>Jack’s Snap Words</dc:title>
</cp:coreProperties>
</file>