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634D-A5DF-4FB0-B672-7336405A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3806-1C3D-4461-80F3-63B96B6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650F-B298-4C28-AA49-01267ECF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34DA-7525-4C31-B381-01B74862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F57-9945-4EC5-B17D-44BEBE27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D19-A4F3-4EB0-9BED-2F67859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EA82-A445-4ABF-93DB-65D4AC0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038F-7043-4084-8FA8-7357673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F927-7FEA-49C7-83A4-02326DD1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B50-6B78-4541-A73F-AFDC186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6929-EE28-4874-9A17-336AC74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A804-D894-439F-983E-1CDB357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2792-14AF-4E5F-8333-4941574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F12-8158-48FE-8E1F-A89564F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DF97-D9E6-4A9A-A8A0-24460661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9CB9-BAAE-4E6E-BB90-7D48DDB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D3D-614D-4979-A52D-C86BD5E8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5C3A-985B-4E92-8816-BD255589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D2CB-1D87-4208-97FA-41C02BB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3C75-93BA-4E98-A4B3-F6F9307B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9607-488A-4923-9E31-6C2970AE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6B1D-2F4F-4D2F-86E5-76E6D94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9190-E857-4248-BCE0-0B0B315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EBFC-8CB6-4647-800C-3AEACC9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4C1-632C-4F13-B39D-1FC79B8C1D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6472-5471-4BBC-9139-48B28A2B96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43531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beca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so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5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b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hem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o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6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8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would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int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6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dow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4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9:58:21Z</dcterms:created>
  <dc:creator>Jim</dc:creator>
  <dc:description/>
  <dc:language>en-US</dc:language>
  <cp:lastModifiedBy>Jim</cp:lastModifiedBy>
  <dcterms:modified xsi:type="dcterms:W3CDTF">2004-05-24T10:02:52Z</dcterms:modified>
  <cp:revision>13</cp:revision>
  <dc:subject/>
  <dc:title>Jack’s Snap Words</dc:title>
</cp:coreProperties>
</file>