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FD6C-499F-4827-9708-E9CB7AB3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2735-D159-43DD-84DA-8374F530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64E1-DDAB-4256-8D59-ABAD6ED4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FFEC-A9DC-493B-A087-FCC43F8A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8CFA-3683-4BE7-BB85-5F24FF4E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8C1B-A735-44EF-B27A-64E8B3DC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9804-4C3B-49C6-9C12-797C34DA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336C-478C-46CD-BE4B-ABF100B2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D1F6-9927-40E4-833E-E59AD2A4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7D85-DF45-4402-B595-4552AF1A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4436-B4BB-4728-B4DA-C4853F07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2573-832F-4E79-BF28-D6EFED3E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1B81-097D-49FD-A33D-5CDD771C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BE7B-98FC-4A1E-B4CA-826E59B0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B1B6-317D-480E-A4AC-916356E5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1B08-B90F-4539-A69B-EB98F854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0057-90A8-47C1-8761-F24C045F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AFB5-DDEE-4C1B-B863-F3293D2D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C830-9507-4657-9A9A-D5591495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F96B-6380-451A-9CE8-E007C853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0853-0B5B-492D-B69A-9D98FB72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4CC7-96DD-4A72-9148-010845A2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4012-A4A4-4509-AD01-97B4D2AC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259ED-0820-4D8D-9788-230F221A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8728-D9DA-43F1-A42D-8C5A787BAB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5443-7665-48C7-B4D6-5AFB5F2AEE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00000" y="3573000"/>
            <a:ext cx="43531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will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0" y="371628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8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3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get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9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going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24360" y="1916280"/>
            <a:ext cx="86364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0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111600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om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717560" y="731880"/>
            <a:ext cx="36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427640" y="2565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79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ou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165564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5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thi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0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what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492360" y="1916280"/>
            <a:ext cx="86364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57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hous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7970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87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off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4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9:58:21Z</dcterms:created>
  <dc:creator>Jim</dc:creator>
  <dc:description/>
  <dc:language>en-US</dc:language>
  <cp:lastModifiedBy>Jim</cp:lastModifiedBy>
  <dcterms:modified xsi:type="dcterms:W3CDTF">2004-06-08T09:41:07Z</dcterms:modified>
  <cp:revision>22</cp:revision>
  <dc:subject/>
  <dc:title>Jack’s Snap Words</dc:title>
</cp:coreProperties>
</file>