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6EED-E83A-409F-A83E-9BF6AEAD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E8AA-B92B-4719-A655-82A7052A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8355-5C53-4FC2-9234-7303E565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6347-A4FD-42A6-B652-9D3E8C19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86E6-2E85-4327-9EEC-89B6CED5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98FC-DED8-40EC-B68D-BD5C41A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C9FB-2359-43B1-962D-CF43D60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36A1-5F24-4F52-B47F-66BD75FD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CFE0-1EAB-4162-AD88-88DD9EB3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4ACF-754B-4851-A9AA-7A11F1D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AEB-A9E3-41E5-B0A9-E51F470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5D01-A809-43D6-83E8-3931FE7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5CE0-1698-494D-961B-25513B4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6FC9-4B64-429E-A0ED-479727E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8315-3DF0-40DF-8198-D4F8E58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C359-3630-46AF-AED0-37DD749D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FDCA-8D75-4E83-A342-2CDCBCAD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F02A-7884-4B79-98AC-ED9370AB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CADE-1A7F-46CF-A97D-05926DB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BFE5-E83F-435F-8AB9-C7B1DAAB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C8EA-B9CE-46C0-BC65-092C544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BB91-BC5F-4F85-959A-EBDD210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051F-396A-4EA8-885E-3A0CBD4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BC37-5BE8-4422-859B-9358385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145-0DDE-48B6-9628-05521A52B4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2F8-568F-43A9-8095-17996C6017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43531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if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round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11640" y="2060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hei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11600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over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17560" y="73188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249228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9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ook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36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72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w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wh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5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could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2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9:58:21Z</dcterms:created>
  <dc:creator>Jim</dc:creator>
  <dc:description/>
  <dc:language>en-US</dc:language>
  <cp:lastModifiedBy>Jim</cp:lastModifiedBy>
  <dcterms:modified xsi:type="dcterms:W3CDTF">2004-06-16T09:52:48Z</dcterms:modified>
  <cp:revision>27</cp:revision>
  <dc:subject/>
  <dc:title>Jack’s Snap Words</dc:title>
</cp:coreProperties>
</file>